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E32-4905-4659-A9BE-EF90CB88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9DF-9385-4F9F-B110-5A1FD17F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D5C6-C8F2-4460-ACC1-B1E29D86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79F3-87B0-4175-BFBC-EDE5AB50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EDA-4B41-4AD2-B481-4D11EDD1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3D15-3E2E-40F6-8B8E-DA2AB5DA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D30-07DE-4A9A-85DE-6B8DBE65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AD45-8D96-416B-B0C1-31F94D58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000-09B7-4B00-B3A2-D45CBF76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528-DC19-4EAF-960C-E17D45B7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72D-6D21-4A08-9253-0C8FAA29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6BCD-5298-4532-B465-3BAA82A4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B845-6EB9-42F9-8CE4-EF531ED4D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aboriginalartstore.com.au/photos/uluru_by_aboriginal_artist_peter_taylor_tjutjatja_1_photo_3.jpg&amp;imgrefurl=http://www.aboriginalartstore.com.au/&amp;h=308&amp;w=410&amp;sz=95&amp;hl=en&amp;start=1&amp;um=1&amp;tbnid=HDPXkJfHAZ5c-M:&amp;tbnh=94&amp;tbnw=125&amp;prev=/images%3Fq%3DAboriginal%2Bpictures%26um%3D1%26hl%3Den%26safe%3Dstrict%26sa%3D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.au/imgres?imgurl=http://www.thegreenhead.com/imgs/aboriginal-boomerangs-1.jpg&amp;imgrefurl=http://www.thegreenhead.com/2005/04/handcrafted-aboriginal-boomerangs.php&amp;h=400&amp;w=400&amp;sz=34&amp;hl=en&amp;start=9&amp;um=1&amp;tbnid=2Lxhx0NbjmR1RM:&amp;tbnh=124&amp;tbnw=124&amp;prev=/images%3Fq%3DAboriginal%2Bpictures%26um%3D1%26hl%3Den%26safe%3Dstrict%26sa%3DN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lh3.google.com/_uSfSHAmNbGA/Rwc3sWl1dOI/AAAAAAAAAQE/qax1T3SMAm4/s800/IMG_0140.JPG&amp;imgrefurl=http://picasaweb.google.com/lh/photo/DOU02NrNNghNS7PgXHsSMw&amp;h=600&amp;w=800&amp;sz=92&amp;tbnid=HTpjqgSQOUwJ:&amp;tbnh=107&amp;tbnw=143&amp;prev=/images%3Fq%3Daboriginal%2Bembassy%2Bpicture&amp;hl=en&amp;sa=X&amp;oi=image_result&amp;resnum=1&amp;ct=image&amp;cd=2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ndigenousrights.net.au/document.asp?iID=793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upload.wikimedia.org/wikipedia/commons/thumb/f/f5/Aboriginal_Embassy_and_Mount_Ainslie_29-10-06.jpg/800px-Aboriginal_Embassy_and_Mount_Ainslie_29-10-06.jpg&amp;imgrefurl=http://commons.wikimedia.org/wiki/Image:Aboriginal_Embassy_and_Mount_Ainslie_29-10-06.jpg&amp;h=533&amp;w=800&amp;sz=78&amp;tbnid=xQlX6hHsyYYJ:&amp;tbnh=95&amp;tbnw=143&amp;prev=/images%3Fq%3Daboriginal%2Bembassy%2Bpicture&amp;hl=en&amp;sa=X&amp;oi=image_result&amp;resnum=1&amp;ct=image&amp;cd=3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1413000"/>
            <a:ext cx="71215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radley Hand ITC"/>
              </a:rPr>
              <a:t>Aboriginal Tent Embassy!!!</a:t>
            </a:r>
            <a:endParaRPr b="1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03640" y="3357720"/>
            <a:ext cx="2592360" cy="1850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484360" y="260280"/>
            <a:ext cx="37306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Index!!!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1844640"/>
            <a:ext cx="3889440" cy="72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did it hap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the Embas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 pla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04640"/>
            <a:ext cx="243216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4611600"/>
            <a:ext cx="2246040" cy="2246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7575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258920" y="549360"/>
            <a:ext cx="6048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lackadder ITC"/>
              </a:rPr>
              <a:t>When did the Embassy start?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lackadder ITC"/>
              <a:ea typeface="Blackadder ITC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2276640"/>
            <a:ext cx="208944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Australia Day in 1972, Aboriginals started setting up tents in front of the Parliament house in Canber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http://picasaweb.google.com/lh/photo/DOU02NrNNghNS7PgXHsSM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2133720"/>
            <a:ext cx="3921120" cy="2933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547640" y="476280"/>
            <a:ext cx="58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33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rint MT Shadow"/>
              </a:rPr>
              <a:t>ABOUT  THE EMBASS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33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rint MT Shadow"/>
              <a:ea typeface="Imprint MT Shadow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51664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young Aboriginal men set up a beach umbrella on the law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2276640"/>
            <a:ext cx="180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the following months, supporters of the embassy swelled to 2000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A large group of people, mostly sitting, in front of a tent. In the middle of the image Alan Sharpley stands holding a sign with black lettering on a white background: We want land rights not handouts. A flag flies from the front of the tent and the Australian War Memorial can be seen far in the background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133720"/>
            <a:ext cx="4286160" cy="28670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484360" y="476280"/>
            <a:ext cx="381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>
                        <a:alpha val="99215"/>
                      </a:srgbClr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Pristina"/>
              </a:rPr>
              <a:t>Aim</a:t>
            </a:r>
            <a:endParaRPr b="1" lang="en-US" sz="4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>
                      <a:alpha val="99215"/>
                    </a:srgbClr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Pristina"/>
              <a:ea typeface="Pristina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9162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started the embassy because they wanted to embarrass the McMahon Liberal Governmen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8000" y="1989000"/>
            <a:ext cx="1979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 r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 determ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uniting families (Stolen Genera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ize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ttp://commons.wikimedia.org/wiki/Image:Aboriginal_Embassy_and_Mount_Ainslie_29-10-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3284640"/>
            <a:ext cx="3889440" cy="2584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340000" y="404640"/>
            <a:ext cx="5040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Rounded MT Bold"/>
              </a:rPr>
              <a:t>Key Player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Rounded MT Bold"/>
              <a:ea typeface="Arial Rounded MT Bold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06064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242100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4797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the people involved in the Aboriginal tent embassy are Gary Foley, Chika Dixon, Pearl Gibbs and Paul Co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http://www.huss.ex.ac.uk/politics/events/schaapworkshop/index.html"/>
          <p:cNvPicPr/>
          <p:nvPr/>
        </p:nvPicPr>
        <p:blipFill>
          <a:blip r:embed="rId1"/>
          <a:stretch/>
        </p:blipFill>
        <p:spPr>
          <a:xfrm>
            <a:off x="1979640" y="1773360"/>
            <a:ext cx="4248000" cy="2720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187280" y="404640"/>
            <a:ext cx="54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ff99cc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Script MT Bold"/>
              </a:rPr>
              <a:t>ThE EnD</a:t>
            </a:r>
            <a:endParaRPr b="0" lang="en-US" sz="5400" spc="1" strike="noStrike">
              <a:ln w="12600">
                <a:solidFill>
                  <a:srgbClr val="ff99cc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580536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: Faiza Mohamed and Mohamud 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4319640" cy="3240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1:07:30Z</dcterms:created>
  <dc:creator>Reservoir District Secondary College</dc:creator>
  <dc:description/>
  <dc:language>en-US</dc:language>
  <cp:lastModifiedBy>Reservoir District Secondary College</cp:lastModifiedBy>
  <dcterms:modified xsi:type="dcterms:W3CDTF">2008-06-05T02:40:23Z</dcterms:modified>
  <cp:revision>4</cp:revision>
  <dc:subject/>
  <dc:title>Slide 1</dc:title>
</cp:coreProperties>
</file>